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C4C-2113-457F-83EF-FF6E56AB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963-0BFF-42A1-9B07-8E0E6D39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DE2-7792-424F-8AB0-3308DAC5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8AA-0420-4B12-8821-7C6BF2A1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E53-ABF7-497B-8678-4359658B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F29-E6B0-4F2C-A590-763AB2F6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542-55D6-4CB3-B6DD-B9833BCB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8B5-641B-49D9-883D-2D6A276A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4C5-4AB6-4342-91DB-EF58406F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E06-8E47-46F7-9CBE-6A116F3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77F-2124-4CEA-9428-8A56AF2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1F3-41B6-442A-86A0-54110FCF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B717-F6BC-45A2-96D2-585DAFEFFF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ement of bootup time using Power Manage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roject Update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3192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ソニ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神長浩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minaga@sm.sony.co.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9CF-6C2E-4D69-A288-F19F69E016F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その他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M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転送でイメージ読み込み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高速に出来ない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-hibernate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開始時間自体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早められない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ブートローダとの協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377-1619-4D4B-B0BF-D8B5F69E32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34360" y="3081240"/>
            <a:ext cx="14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D09-48F9-4070-9582-769934B7329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趣旨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-to-disk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技術を用い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システムの起動高速化を検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開発の各フェーズのスナップショット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保存（検証などの目的に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08F-BF3D-4421-88DF-C57CA5E482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前回までのあらま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機能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ポーティングし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: 2.6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機能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ポーティングした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uspend2-2.2-rc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: 2.6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984-8F85-4716-B522-B12CCF3D59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の現状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-rc9: ARM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ポーティング済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-rc13: 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サポートが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取り込まれ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-rc16: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現在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版をデバッグ中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（佳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今回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-rc14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評価し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（動作が確認されている最新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C7C-8C3A-413C-B6C5-6E6E417949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環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809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ターゲットボ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Starter Kit (OSK 5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書き込み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sh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osk.jpg"/>
          <p:cNvPicPr/>
          <p:nvPr/>
        </p:nvPicPr>
        <p:blipFill>
          <a:blip r:embed="rId2"/>
          <a:stretch/>
        </p:blipFill>
        <p:spPr>
          <a:xfrm>
            <a:off x="5651640" y="333360"/>
            <a:ext cx="3095640" cy="2325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03640" y="2792520"/>
            <a:ext cx="396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669-71F0-49C4-9518-844BC155DA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測定方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k times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用い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 make menuconfi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Kernel hacking   ---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[*] Show timing information on print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6A3-39C1-4860-9688-8AB4CF7482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測定結果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052640"/>
          <a:ext cx="7631280" cy="4984560"/>
        </p:xfrm>
        <a:graphic>
          <a:graphicData uri="http://schemas.openxmlformats.org/drawingml/2006/table">
            <a:tbl>
              <a:tblPr/>
              <a:tblGrid>
                <a:gridCol w="3598920"/>
                <a:gridCol w="2016000"/>
                <a:gridCol w="2016360"/>
              </a:tblGrid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la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-hibernate start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9193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9198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-hibernate end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32175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94119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-hibernate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72978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34920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data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8325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8546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cache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6208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9957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total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4534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812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8444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6796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e size [MB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7968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6171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speed [MB/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8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2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237440" y="61657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9BE-9B6A-4E86-AC2D-AEC35480CE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 FLASH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の読込速度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T28F128J3FS-12 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 bit / 120ns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Cyc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資料より）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894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 time dd if=/dev/mtdblock3 of=/dev/null \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s=1024 count=1024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0.07 sys 2.2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 4.44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841-0E55-4F00-B9CA-6D6F524C63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今後の課題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パフォーマンスアナライザなどでの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ボトルネック解析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起動時間短縮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デバッグツール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cXX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バグ解析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00840" y="5370480"/>
            <a:ext cx="59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KST?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T?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Ta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CB3-911C-49CF-B58D-BB174870F5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kaminaga</cp:lastModifiedBy>
  <dcterms:modified xsi:type="dcterms:W3CDTF">2006-01-20T10:15:23Z</dcterms:modified>
  <cp:revision>3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